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7F7-759E-44EE-92CA-CE8AC4E6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836-A10F-4C97-9621-C61B2D1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389-45DA-4A4D-A5EE-BBB33D5C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94D-1C2D-410C-8693-1AAFB352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BFF-CD47-4F6E-89CD-0E44A7E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E6F-4F56-4F88-A72B-5FF3074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394-B2F8-4375-A20E-B032D192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BA7-B13E-4CA1-B16E-030A690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080-3542-476A-A78C-231D879C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D5A-44AC-4B76-815B-81FFA1C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F0A-5AE0-4267-B57D-8243C4C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846-D082-4809-AB29-0F3103A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19E-133E-4955-BF73-753E02B0D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895480" cy="81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6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Tom roller-sk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44956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3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6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speak Chin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1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2280" y="11430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and Rosy drink coff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81680" y="19810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4495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9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0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67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0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r father drive 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6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7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91320" y="4568760"/>
            <a:ext cx="3276360" cy="917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9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0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0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snake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229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6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1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44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turtles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8:52:48Z</dcterms:created>
  <dc:creator>Gabi Sandru</dc:creator>
  <dc:description/>
  <dc:language>en-US</dc:language>
  <cp:lastModifiedBy>Gabi Sandru</cp:lastModifiedBy>
  <dcterms:modified xsi:type="dcterms:W3CDTF">2010-02-05T23:38:45Z</dcterms:modified>
  <cp:revision>25</cp:revision>
  <dc:subject>abilities + pronouns</dc:subject>
  <dc:title>Personal Pronouns</dc:title>
</cp:coreProperties>
</file>